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3EB6-9CCC-445A-A0E9-FFC0355B59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6D3B-6691-4BFE-964D-CAA8294BC9C0}" type="slidenum">
              <a:rPr b="0" lang="pl-PL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4788-7871-4E44-97EC-ADB241D04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A9BF-D8A8-44A0-8CF5-D3827688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A919-046A-44F6-A8EE-36FCAF2E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D97-70EB-4FD9-A10F-1C85E1B5E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73421F-7E5F-4551-AD61-E6EEC35A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96435A-B62B-49EB-A590-C9630C20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B0ED8-6115-46F1-AF65-E8423F69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104C9-D71B-49BD-A063-18714639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0CD71-CACC-4300-A89D-124C5620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98CA1-1438-4987-812F-BD398CDE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F46AD-37AF-43C3-981F-137F0FE9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D4C-26EE-4351-B646-0444F2438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22DFE-01DC-4167-B989-80BE1164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5455F-5CD1-4B30-988E-0E772E3D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01EAE-4B5F-4DD0-9BA8-0E163841B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CB1A8-3353-4061-ABC1-8FD58AE4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29BAA-2664-4720-A149-7EEF67F1C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4C0-9507-458A-8DD3-A32F768D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056-CCD4-4AF8-BF59-314F73B6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F07C-05A0-4646-A8A6-A55605FA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A306-1299-4810-B67F-82EC7E71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BE4-A494-4E62-8AB0-0EACBB67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F90C-D5AD-490A-B3A4-FFA501EE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37DB-8E2D-42EC-A334-817BB135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191F-018F-41F4-B858-79E7160FF438}" type="slidenum">
              <a:rPr b="0" lang="pl-PL" sz="1200" spc="-1" strike="noStrike">
                <a:solidFill>
                  <a:srgbClr val="d2d2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53960" y="518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76040" y="187200"/>
            <a:ext cx="8763120" cy="6213600"/>
          </a:xfrm>
          <a:prstGeom prst="rect">
            <a:avLst/>
          </a:prstGeom>
          <a:noFill/>
          <a:ln cap="rnd" w="9360">
            <a:solidFill>
              <a:srgbClr val="6c6c6c"/>
            </a:solidFill>
            <a:custDash>
              <a:ds d="499000" sp="201000"/>
            </a:custDash>
            <a:miter/>
          </a:ln>
          <a:effectLst>
            <a:outerShdw dist="1260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6600" y="6559200"/>
            <a:ext cx="2438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2d2d2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8172360" y="6559200"/>
            <a:ext cx="914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2d2d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2A16-83CB-40C7-85E6-0403B6654621}" type="slidenum">
              <a:rPr b="0" lang="pl-PL" sz="1200" spc="-1" strike="noStrike">
                <a:solidFill>
                  <a:srgbClr val="d2d2d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2995560" y="6557760"/>
            <a:ext cx="4648320" cy="24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Century School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hyperlink" Target="http://fuerte.psystem.pl/pages/image/imagepage19.html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RoqueNublo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en.wikipedia.org/wiki/File:Teide2007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en.wikipedia.org/wiki/File:Anaga_2006.jpg" TargetMode="External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3962160"/>
            <a:ext cx="8298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d2d2d2"/>
                </a:solidFill>
                <a:latin typeface="Century Schoolbook"/>
              </a:rPr>
              <a:t> </a:t>
            </a:r>
            <a:endParaRPr b="0" lang="en-US" sz="32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143080" y="5143680"/>
            <a:ext cx="6386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cc00cc"/>
                </a:solidFill>
                <a:latin typeface="Century Schoolbook"/>
              </a:rPr>
              <a:t>WYSPY       KANARYJSKIE 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69" name="Picture 2" descr="http://www.ttglive.com/image/image_gallery?img_id=2620076"/>
          <p:cNvPicPr/>
          <p:nvPr/>
        </p:nvPicPr>
        <p:blipFill>
          <a:blip r:embed="rId1"/>
          <a:srcRect l="2265" t="0" r="2265" b="0"/>
          <a:stretch/>
        </p:blipFill>
        <p:spPr>
          <a:xfrm>
            <a:off x="6215040" y="1571760"/>
            <a:ext cx="2286000" cy="22860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0" name="pole tekstowe 4"/>
          <p:cNvSpPr/>
          <p:nvPr/>
        </p:nvSpPr>
        <p:spPr>
          <a:xfrm>
            <a:off x="6357960" y="421488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e69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pole tekstowe 5"/>
          <p:cNvSpPr/>
          <p:nvPr/>
        </p:nvSpPr>
        <p:spPr>
          <a:xfrm>
            <a:off x="6572160" y="335772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Schoolbook"/>
              </a:rPr>
              <a:t>Timanfaya-Lanzarote</a:t>
            </a:r>
            <a:endParaRPr b="0" lang="en-US" sz="12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Symbol zastępczy obrazu 6" descr="DSC_8706[1].jpg"/>
          <p:cNvPicPr/>
          <p:nvPr/>
        </p:nvPicPr>
        <p:blipFill>
          <a:blip r:embed="rId1"/>
          <a:srcRect l="0" t="24877" r="0" b="24877"/>
          <a:stretch/>
        </p:blipFill>
        <p:spPr>
          <a:xfrm>
            <a:off x="457200" y="340344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0" name="Symbol zastępczy obrazu 5" descr="DSC_8287[1].jpg"/>
          <p:cNvPicPr/>
          <p:nvPr/>
        </p:nvPicPr>
        <p:blipFill>
          <a:blip r:embed="rId2"/>
          <a:stretch/>
        </p:blipFill>
        <p:spPr>
          <a:xfrm>
            <a:off x="4664160" y="390600"/>
            <a:ext cx="4022640" cy="2693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40226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cc"/>
                </a:solidFill>
                <a:latin typeface="Century Schoolbook"/>
              </a:rPr>
              <a:t>FUERTEVENTURA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cc"/>
                </a:solidFill>
                <a:latin typeface="Century Schoolbook"/>
              </a:rPr>
              <a:t>http://fuerte.psystem.pl/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212" name="Picture 10" descr="http://fuerte.psystem.pl/images/thumbnail/DSC_8372.JPG">
            <a:hlinkClick r:id="rId3"/>
          </p:cNvPr>
          <p:cNvPicPr/>
          <p:nvPr/>
        </p:nvPicPr>
        <p:blipFill>
          <a:blip r:embed="rId4"/>
          <a:srcRect l="0" t="12509" r="0" b="12509"/>
          <a:stretch/>
        </p:blipFill>
        <p:spPr>
          <a:xfrm>
            <a:off x="4664160" y="340344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27000" y="61718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Century Schoolbook"/>
              </a:rPr>
              <a:t>Wydmy Maspalomas.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60920" y="61718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Century Schoolbook"/>
              </a:rPr>
              <a:t>Presa de Chira.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0920" y="1519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Century Schoolbook"/>
              </a:rPr>
              <a:t>Roque Bentayga 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216" name="Picture 2" descr="http://upload.wikimedia.org/wikipedia/commons/thumb/8/85/RoqueNublo2.jpg/250px-RoqueNublo2.jpg">
            <a:hlinkClick r:id="rId1"/>
          </p:cNvPr>
          <p:cNvPicPr/>
          <p:nvPr/>
        </p:nvPicPr>
        <p:blipFill>
          <a:blip r:embed="rId2"/>
          <a:srcRect l="6860" t="0" r="6860" b="0"/>
          <a:stretch/>
        </p:blipFill>
        <p:spPr>
          <a:xfrm>
            <a:off x="927000" y="533520"/>
            <a:ext cx="365292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7" name="Picture 4" descr="http://upload.wikimedia.org/wikipedia/commons/thumb/b/bc/Presa_chira_gran_canaria.JPG/250px-Presa_chira_gran_canaria.JPG"/>
          <p:cNvPicPr/>
          <p:nvPr/>
        </p:nvPicPr>
        <p:blipFill>
          <a:blip r:embed="rId3"/>
          <a:srcRect l="0" t="136" r="0" b="136"/>
          <a:stretch/>
        </p:blipFill>
        <p:spPr>
          <a:xfrm>
            <a:off x="4660920" y="335268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8" name="Picture 6" descr="http://upload.wikimedia.org/wikipedia/commons/thumb/6/64/D%C3%BCne4.jpg/250px-D%C3%BCne4.jpg"/>
          <p:cNvPicPr/>
          <p:nvPr/>
        </p:nvPicPr>
        <p:blipFill>
          <a:blip r:embed="rId4"/>
          <a:srcRect l="0" t="2888" r="0" b="2888"/>
          <a:stretch/>
        </p:blipFill>
        <p:spPr>
          <a:xfrm>
            <a:off x="927000" y="335268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19" name="Picture 8" descr="http://upload.wikimedia.org/wikipedia/commons/thumb/6/62/Bentayga2.jpg/250px-Bentayga2.jpg"/>
          <p:cNvPicPr/>
          <p:nvPr/>
        </p:nvPicPr>
        <p:blipFill>
          <a:blip r:embed="rId5"/>
          <a:srcRect l="5480" t="0" r="5480" b="0"/>
          <a:stretch/>
        </p:blipFill>
        <p:spPr>
          <a:xfrm>
            <a:off x="4660920" y="53352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20" name="pole tekstowe 15"/>
          <p:cNvSpPr/>
          <p:nvPr/>
        </p:nvSpPr>
        <p:spPr>
          <a:xfrm>
            <a:off x="2071800" y="357192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00cc"/>
                </a:solidFill>
                <a:latin typeface="Century Schoolbook"/>
              </a:rPr>
              <a:t>GRAN CANARI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27000" y="1519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ffffff"/>
                </a:solidFill>
                <a:latin typeface="Century Schoolbook"/>
              </a:rPr>
              <a:t>Roque Nublo.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Symbol zastępczy obrazu 9" descr="180px-Kleine_Kanareneidechse[1].jpg"/>
          <p:cNvPicPr/>
          <p:nvPr/>
        </p:nvPicPr>
        <p:blipFill>
          <a:blip r:embed="rId1"/>
          <a:srcRect l="6299" t="0" r="6299" b="0"/>
          <a:stretch/>
        </p:blipFill>
        <p:spPr>
          <a:xfrm>
            <a:off x="4660920" y="53352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3" name="Symbol zastępczy obrazu 21" descr="imagesCALFO3TW.jpg"/>
          <p:cNvPicPr/>
          <p:nvPr/>
        </p:nvPicPr>
        <p:blipFill>
          <a:blip r:embed="rId2"/>
          <a:stretch/>
        </p:blipFill>
        <p:spPr>
          <a:xfrm>
            <a:off x="4665600" y="3352680"/>
            <a:ext cx="364824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4" name="Picture 4" descr="http://upload.wikimedia.org/wikipedia/commons/thumb/9/91/El_Hierro_Sabinar.JPG/250px-El_Hierro_Sabinar.JPG"/>
          <p:cNvPicPr/>
          <p:nvPr/>
        </p:nvPicPr>
        <p:blipFill>
          <a:blip r:embed="rId3"/>
          <a:srcRect l="5522" t="0" r="5522" b="0"/>
          <a:stretch/>
        </p:blipFill>
        <p:spPr>
          <a:xfrm>
            <a:off x="927000" y="533520"/>
            <a:ext cx="365292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25" name="Symbol zastępczy obrazu 20" descr="DSCN2608.JPG"/>
          <p:cNvPicPr/>
          <p:nvPr/>
        </p:nvPicPr>
        <p:blipFill>
          <a:blip r:embed="rId4"/>
          <a:stretch/>
        </p:blipFill>
        <p:spPr>
          <a:xfrm>
            <a:off x="927000" y="335268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26" name="pole tekstowe 19"/>
          <p:cNvSpPr/>
          <p:nvPr/>
        </p:nvSpPr>
        <p:spPr>
          <a:xfrm>
            <a:off x="4000680" y="1000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bfbfbf"/>
                </a:solidFill>
                <a:latin typeface="Century Schoolbook"/>
              </a:rPr>
              <a:t>El Hierro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7" name="pole tekstowe 22"/>
          <p:cNvSpPr/>
          <p:nvPr/>
        </p:nvSpPr>
        <p:spPr>
          <a:xfrm>
            <a:off x="5357880" y="5715000"/>
            <a:ext cx="25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La Gomer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8" name="pole tekstowe 23"/>
          <p:cNvSpPr/>
          <p:nvPr/>
        </p:nvSpPr>
        <p:spPr>
          <a:xfrm>
            <a:off x="1643040" y="564372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Teneryf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Ela\Desktop\Tenerife-prezentacja\map_of_canary-islands.jpg"/>
          <p:cNvPicPr/>
          <p:nvPr/>
        </p:nvPicPr>
        <p:blipFill>
          <a:blip r:embed="rId1"/>
          <a:srcRect l="0" t="73" r="0" b="73"/>
          <a:stretch/>
        </p:blipFill>
        <p:spPr>
          <a:xfrm>
            <a:off x="914400" y="295200"/>
            <a:ext cx="7467480" cy="5600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14040" y="601992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entury Schoolbook"/>
              </a:rPr>
              <a:t>LANZAROTE - FURTEVENTURA - GRAN CANARIA- TENERIFE – LA GOMERA – LA PALMA – EL HIERRO</a:t>
            </a:r>
            <a:endParaRPr b="0" lang="en-US" sz="1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Symbol zastępczy obrazu 8" descr="750px-Flag_of_the_Canary_Islands.svg[1].png"/>
          <p:cNvPicPr/>
          <p:nvPr/>
        </p:nvPicPr>
        <p:blipFill>
          <a:blip r:embed="rId1"/>
          <a:srcRect l="0" t="4127" r="0" b="4127"/>
          <a:stretch/>
        </p:blipFill>
        <p:spPr>
          <a:xfrm>
            <a:off x="457200" y="4429080"/>
            <a:ext cx="3257640" cy="199224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75" name="Symbol zastępczy obrazu 6" descr="Santa-cruz-auditorium[1].jpg"/>
          <p:cNvPicPr/>
          <p:nvPr/>
        </p:nvPicPr>
        <p:blipFill>
          <a:blip r:embed="rId2"/>
          <a:stretch/>
        </p:blipFill>
        <p:spPr>
          <a:xfrm>
            <a:off x="4664160" y="22860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6840" y="228240"/>
            <a:ext cx="3900600" cy="39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5005f"/>
                </a:solidFill>
                <a:latin typeface="Century Schoolbook"/>
              </a:rPr>
              <a:t>COMUNIDAD AUT</a:t>
            </a: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O</a:t>
            </a:r>
            <a:r>
              <a:rPr b="1" lang="pl-PL" sz="1800" spc="-1" strike="noStrike">
                <a:solidFill>
                  <a:srgbClr val="75005f"/>
                </a:solidFill>
                <a:latin typeface="Century Schoolbook"/>
              </a:rPr>
              <a:t>NOMA DE CANARIAS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Powierzchnia: 7 447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Populacja: 2 mln 075tys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Stolica: Santa Cruz de Tenerife 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Las Palmas de Gran Canari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77" name="Symbol zastępczy obrazu 12" descr="800px-Columbus_House-Vegueta-Las_Palmas_Gran_Canaria[1].jpg"/>
          <p:cNvPicPr/>
          <p:nvPr/>
        </p:nvPicPr>
        <p:blipFill>
          <a:blip r:embed="rId3"/>
          <a:srcRect l="14" t="0" r="14" b="0"/>
          <a:stretch/>
        </p:blipFill>
        <p:spPr>
          <a:xfrm>
            <a:off x="4664160" y="340344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78" name="pole tekstowe 6"/>
          <p:cNvSpPr/>
          <p:nvPr/>
        </p:nvSpPr>
        <p:spPr>
          <a:xfrm>
            <a:off x="5000760" y="285768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La Laguna-Tenerif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9" name="pole tekstowe 7"/>
          <p:cNvSpPr/>
          <p:nvPr/>
        </p:nvSpPr>
        <p:spPr>
          <a:xfrm>
            <a:off x="5286240" y="564372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Las Palmas- Gran Canari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Symbol zastępczy obrazu 4" descr="DSCN2375.JPG"/>
          <p:cNvPicPr/>
          <p:nvPr/>
        </p:nvPicPr>
        <p:blipFill>
          <a:blip r:embed="rId1"/>
          <a:srcRect l="0" t="122" r="0" b="122"/>
          <a:stretch/>
        </p:blipFill>
        <p:spPr>
          <a:xfrm>
            <a:off x="419040" y="233280"/>
            <a:ext cx="4640400" cy="6172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257440" y="3047760"/>
            <a:ext cx="35053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b">
            <a:normAutofit/>
          </a:bodyPr>
          <a:p>
            <a:pPr marL="343080" indent="-343080">
              <a:spcBef>
                <a:spcPts val="451"/>
              </a:spcBef>
              <a:buClr>
                <a:srgbClr val="75005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Atlantyd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75005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Elizjum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75005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Guanczowi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43080">
              <a:spcBef>
                <a:spcPts val="451"/>
              </a:spcBef>
              <a:buClr>
                <a:srgbClr val="75005f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75005f"/>
                </a:solidFill>
                <a:latin typeface="Century Schoolbook"/>
              </a:rPr>
              <a:t>Kolonizacj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2" name="pole tekstowe 3"/>
          <p:cNvSpPr/>
          <p:nvPr/>
        </p:nvSpPr>
        <p:spPr>
          <a:xfrm>
            <a:off x="1000080" y="585792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Candelaría- Tenerif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Symbol zastępczy obrazu 8" descr="DSCN2881.JPG"/>
          <p:cNvPicPr/>
          <p:nvPr/>
        </p:nvPicPr>
        <p:blipFill>
          <a:blip r:embed="rId1"/>
          <a:srcRect l="18" t="0" r="18" b="0"/>
          <a:stretch/>
        </p:blipFill>
        <p:spPr>
          <a:xfrm>
            <a:off x="4664160" y="340344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4" name="Symbol zastępczy obrazu 9" descr="250px-Teide_and_Caldera_2006[1].jpg"/>
          <p:cNvPicPr/>
          <p:nvPr/>
        </p:nvPicPr>
        <p:blipFill>
          <a:blip r:embed="rId2"/>
          <a:srcRect l="0" t="14958" r="0" b="14958"/>
          <a:stretch/>
        </p:blipFill>
        <p:spPr>
          <a:xfrm>
            <a:off x="500040" y="4286160"/>
            <a:ext cx="4051440" cy="21351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5" name="Symbol zastępczy obrazu 5" descr="DSCN2771.JPG"/>
          <p:cNvPicPr/>
          <p:nvPr/>
        </p:nvPicPr>
        <p:blipFill>
          <a:blip r:embed="rId3"/>
          <a:srcRect l="18" t="0" r="18" b="0"/>
          <a:stretch/>
        </p:blipFill>
        <p:spPr>
          <a:xfrm>
            <a:off x="4664160" y="22860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28400" y="214200"/>
            <a:ext cx="407196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52000"/>
          </a:bodyPr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cc"/>
                </a:solidFill>
                <a:latin typeface="Century Schoolbook"/>
              </a:rPr>
              <a:t>TENERIFE</a:t>
            </a:r>
            <a:endParaRPr b="0" lang="en-US" sz="20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cc"/>
                </a:solidFill>
                <a:latin typeface="Century Schoolbook"/>
              </a:rPr>
              <a:t>El Teide 3 718 m n.p.m.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-178200">
              <a:spcBef>
                <a:spcPts val="45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http://reddeparquesnacionales.mma.es/parques/teide/index.htm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marL="178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Symbol zastępczy obrazu 6" descr="DSCN2635.JPG"/>
          <p:cNvPicPr/>
          <p:nvPr/>
        </p:nvPicPr>
        <p:blipFill>
          <a:blip r:embed="rId1"/>
          <a:srcRect l="2635" t="0" r="2635" b="0"/>
          <a:stretch/>
        </p:blipFill>
        <p:spPr>
          <a:xfrm>
            <a:off x="5072040" y="3643200"/>
            <a:ext cx="3649680" cy="28893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8" name="Symbol zastępczy obrazu 4" descr="imagesCAIM1XSU.jpg"/>
          <p:cNvPicPr/>
          <p:nvPr/>
        </p:nvPicPr>
        <p:blipFill>
          <a:blip r:embed="rId2"/>
          <a:stretch/>
        </p:blipFill>
        <p:spPr>
          <a:xfrm>
            <a:off x="428760" y="1785960"/>
            <a:ext cx="4457520" cy="33433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89" name="Symbol zastępczy obrazu 5" descr="DSCN1500.JPG"/>
          <p:cNvPicPr/>
          <p:nvPr/>
        </p:nvPicPr>
        <p:blipFill>
          <a:blip r:embed="rId3"/>
          <a:stretch/>
        </p:blipFill>
        <p:spPr>
          <a:xfrm>
            <a:off x="5072040" y="50004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0" name="pole tekstowe 11"/>
          <p:cNvSpPr/>
          <p:nvPr/>
        </p:nvSpPr>
        <p:spPr>
          <a:xfrm>
            <a:off x="5500800" y="278604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Teneryfa Północn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1" name="pole tekstowe 13"/>
          <p:cNvSpPr/>
          <p:nvPr/>
        </p:nvSpPr>
        <p:spPr>
          <a:xfrm>
            <a:off x="5572080" y="6072120"/>
            <a:ext cx="271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Playa de Las Americas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2" name="pole tekstowe 14"/>
          <p:cNvSpPr/>
          <p:nvPr/>
        </p:nvSpPr>
        <p:spPr>
          <a:xfrm>
            <a:off x="928800" y="471492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Masc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3" name="pole tekstowe 7"/>
          <p:cNvSpPr/>
          <p:nvPr/>
        </p:nvSpPr>
        <p:spPr>
          <a:xfrm>
            <a:off x="714240" y="5786280"/>
            <a:ext cx="37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http://www.youtube.com/results?search_query=tenerife&amp;aq=f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Symbol zastępczy obrazu 9" descr="imagesCAW7R9ER.jpg"/>
          <p:cNvPicPr/>
          <p:nvPr/>
        </p:nvPicPr>
        <p:blipFill>
          <a:blip r:embed="rId1"/>
          <a:stretch/>
        </p:blipFill>
        <p:spPr>
          <a:xfrm>
            <a:off x="927000" y="534960"/>
            <a:ext cx="3652920" cy="273996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27000" y="1519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500" spc="-1" strike="noStrike">
                <a:solidFill>
                  <a:srgbClr val="cc00cc"/>
                </a:solidFill>
                <a:latin typeface="Century Schoolbook"/>
              </a:rPr>
              <a:t>Tenerife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  <p:pic>
        <p:nvPicPr>
          <p:cNvPr id="196" name="Picture 11" descr="http://upload.wikimedia.org/wikipedia/commons/thumb/8/83/Teide2007.jpg/250px-Teide2007.jpg">
            <a:hlinkClick r:id="rId2"/>
          </p:cNvPr>
          <p:cNvPicPr/>
          <p:nvPr/>
        </p:nvPicPr>
        <p:blipFill>
          <a:blip r:embed="rId3"/>
          <a:srcRect l="3867" t="0" r="3867" b="0"/>
          <a:stretch/>
        </p:blipFill>
        <p:spPr>
          <a:xfrm>
            <a:off x="4660920" y="53352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7" name="Picture 13" descr="http://upload.wikimedia.org/wikipedia/commons/thumb/6/61/Anaga_2006.jpg/300px-Anaga_2006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60920" y="335268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8" name="Symbol zastępczy obrazu 28" descr="120px-Pto-cruz[1].jpg"/>
          <p:cNvPicPr/>
          <p:nvPr/>
        </p:nvPicPr>
        <p:blipFill>
          <a:blip r:embed="rId6"/>
          <a:stretch/>
        </p:blipFill>
        <p:spPr>
          <a:xfrm>
            <a:off x="982800" y="3352680"/>
            <a:ext cx="354636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Symbol zastępczy obrazu 7" descr="imagesCAW7R9ER.jpg"/>
          <p:cNvPicPr/>
          <p:nvPr/>
        </p:nvPicPr>
        <p:blipFill>
          <a:blip r:embed="rId1"/>
          <a:stretch/>
        </p:blipFill>
        <p:spPr>
          <a:xfrm>
            <a:off x="5165640" y="3780000"/>
            <a:ext cx="3017880" cy="22651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0" name="Symbol zastępczy obrazu 6" descr="imagesCA9MC74E.jpg"/>
          <p:cNvPicPr/>
          <p:nvPr/>
        </p:nvPicPr>
        <p:blipFill>
          <a:blip r:embed="rId2"/>
          <a:stretch/>
        </p:blipFill>
        <p:spPr>
          <a:xfrm>
            <a:off x="501480" y="3403440"/>
            <a:ext cx="393552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1" name="Symbol zastępczy obrazu 5" descr="Santa-cruz-auditorium[1].jpg"/>
          <p:cNvPicPr/>
          <p:nvPr/>
        </p:nvPicPr>
        <p:blipFill>
          <a:blip r:embed="rId3"/>
          <a:srcRect l="0" t="18745" r="0" b="18745"/>
          <a:stretch/>
        </p:blipFill>
        <p:spPr>
          <a:xfrm>
            <a:off x="4664160" y="228600"/>
            <a:ext cx="4022640" cy="30178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402264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7030a0"/>
                </a:solidFill>
                <a:latin typeface="Century Schoolbook"/>
              </a:rPr>
              <a:t>SANTA CRUZ DE TENERIF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spcBef>
                <a:spcPts val="451"/>
              </a:spcBef>
              <a:buClr>
                <a:srgbClr val="cc00cc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cc"/>
                </a:solidFill>
                <a:latin typeface="Century Schoolbook"/>
              </a:rPr>
              <a:t> </a:t>
            </a:r>
            <a:r>
              <a:rPr b="0" lang="pl-PL" sz="1800" spc="-1" strike="noStrike">
                <a:solidFill>
                  <a:srgbClr val="cc00cc"/>
                </a:solidFill>
                <a:latin typeface="Century Schoolbook"/>
              </a:rPr>
              <a:t>Auditorio de Tenerif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spcBef>
                <a:spcPts val="451"/>
              </a:spcBef>
              <a:buClr>
                <a:srgbClr val="cc00cc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cc"/>
                </a:solidFill>
                <a:latin typeface="Century Schoolbook"/>
              </a:rPr>
              <a:t>TEA   Tenerife Espacio de las Artes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spcBef>
                <a:spcPts val="451"/>
              </a:spcBef>
              <a:buClr>
                <a:srgbClr val="cc00cc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cc00cc"/>
                </a:solidFill>
                <a:latin typeface="Century Schoolbook"/>
              </a:rPr>
              <a:t>La Laguna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Schoolbook"/>
              </a:rPr>
              <a:t>http://www.youtube.com/watch?v=61DsYiMYOsE&amp;feature=related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66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Symbol zastępczy obrazu 9" descr="Lanzarote%205448[1].jpg"/>
          <p:cNvPicPr/>
          <p:nvPr/>
        </p:nvPicPr>
        <p:blipFill>
          <a:blip r:embed="rId1"/>
          <a:srcRect l="6641" t="0" r="6641" b="0"/>
          <a:stretch/>
        </p:blipFill>
        <p:spPr>
          <a:xfrm>
            <a:off x="927000" y="533520"/>
            <a:ext cx="365292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4" name="Symbol zastępczy obrazu 11" descr="180px-ElDiablo[1].jpg"/>
          <p:cNvPicPr/>
          <p:nvPr/>
        </p:nvPicPr>
        <p:blipFill>
          <a:blip r:embed="rId2"/>
          <a:stretch/>
        </p:blipFill>
        <p:spPr>
          <a:xfrm>
            <a:off x="4660920" y="53352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5" name="Symbol zastępczy obrazu 12" descr="imagesCAIOX9F6.jpg"/>
          <p:cNvPicPr/>
          <p:nvPr/>
        </p:nvPicPr>
        <p:blipFill>
          <a:blip r:embed="rId3"/>
          <a:stretch/>
        </p:blipFill>
        <p:spPr>
          <a:xfrm>
            <a:off x="1738440" y="3352680"/>
            <a:ext cx="203508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06" name="Symbol zastępczy obrazu 10" descr="lanzarote[1].jpg"/>
          <p:cNvPicPr/>
          <p:nvPr/>
        </p:nvPicPr>
        <p:blipFill>
          <a:blip r:embed="rId4"/>
          <a:srcRect l="0" t="4229" r="0" b="4229"/>
          <a:stretch/>
        </p:blipFill>
        <p:spPr>
          <a:xfrm>
            <a:off x="4660920" y="3352680"/>
            <a:ext cx="3657600" cy="274320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50911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927000" y="1519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" rIns="90000" tIns="46800" bIns="46800" anchor="t">
            <a:normAutofit fontScale="77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cc00cc"/>
                </a:solidFill>
                <a:latin typeface="Century Schoolbook"/>
              </a:rPr>
              <a:t>LANZAROTE</a:t>
            </a:r>
            <a:endParaRPr b="0" lang="en-US" sz="18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8" name="pole tekstowe 14"/>
          <p:cNvSpPr/>
          <p:nvPr/>
        </p:nvSpPr>
        <p:spPr>
          <a:xfrm>
            <a:off x="785880" y="6429240"/>
            <a:ext cx="764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Century Schoolbook"/>
              </a:rPr>
              <a:t>http://www.wysokieobcasy.pl/wysokie-obcasy/1,53662,7402646,Chce_wrocic_do_Sahary__Zywa_lub_martwa.html</a:t>
            </a:r>
            <a:endParaRPr b="0" lang="en-US" sz="10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5:31:55Z</dcterms:created>
  <dc:creator/>
  <dc:description/>
  <dc:language>en-US</dc:language>
  <cp:lastModifiedBy/>
  <dcterms:modified xsi:type="dcterms:W3CDTF">2012-05-19T16:19:10Z</dcterms:modified>
  <cp:revision>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5</vt:r8>
  </property>
  <property fmtid="{D5CDD505-2E9C-101B-9397-08002B2CF9AE}" pid="3" name="_Version">
    <vt:lpwstr>12.0.4518</vt:lpwstr>
  </property>
</Properties>
</file>